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052-5961-444C-B68C-18D32675D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Death / The Plag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A69-0ABE-433B-B6C0-25D5F22D3C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0DC-C753-46D9-BC17-16A762BC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0C9-3F9A-4B27-9481-084E659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6C2-5C79-445C-893E-CA0AAFD9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530-C90C-4BCB-84F5-2FBF31A2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394-7A2C-4E33-BF01-D6B640C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EC1-1C52-4440-B8B3-615BC17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074-BD90-4C23-8091-E527092D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340-CDC0-4082-8D5D-1FB332E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D85-8C6D-42E0-AED5-A8125DE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1AD-ACAA-4BAD-A3F2-C3D60A3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345-1B83-4E5C-AC2A-9021050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720-0D36-48CE-820F-9E16520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1ED-5A47-4AA1-B850-F6CD564AC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4" descr=""/>
          <p:cNvPicPr/>
          <p:nvPr/>
        </p:nvPicPr>
        <p:blipFill>
          <a:blip r:embed="rId1"/>
          <a:srcRect l="16346" t="9746" r="31733" b="2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y has our population grown so much since 1800's? (WHY more ba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895480" y="5486400"/>
            <a:ext cx="24386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9"/>
          <p:cNvCxnSpPr/>
          <p:nvPr/>
        </p:nvCxnSpPr>
        <p:spPr>
          <a:xfrm flipH="1">
            <a:off x="5866560" y="3200040"/>
            <a:ext cx="2210760" cy="25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>
            <a:off x="7162920" y="2252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y do you think there was a dip in the population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9:30Z</dcterms:created>
  <dc:creator>User</dc:creator>
  <dc:description/>
  <dc:language>en-US</dc:language>
  <cp:lastModifiedBy>User</cp:lastModifiedBy>
  <dcterms:modified xsi:type="dcterms:W3CDTF">2009-12-07T14:23:05Z</dcterms:modified>
  <cp:revision>1</cp:revision>
  <dc:subject/>
  <dc:title>Slide 1</dc:title>
</cp:coreProperties>
</file>